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.jpeg" ContentType="image/jpeg"/>
  <Override PartName="/ppt/media/projctor.wav" ContentType="audio/x-wav"/>
  <Override PartName="/ppt/media/image9.png" ContentType="image/png"/>
  <Override PartName="/ppt/media/image2.gif" ContentType="image/gif"/>
  <Override PartName="/ppt/media/image12.jpeg" ContentType="image/jpeg"/>
  <Override PartName="/ppt/media/image13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3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3CB-737A-40EC-A028-2501F923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8AD-ACA4-4081-913A-782D8B0C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DE6-CCBB-4363-B1FA-91ECE7AC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E55-785D-4A47-99EC-F3B7B80B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0C9-2FA7-4F2D-A8A9-1F3D277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7FC-3E08-4B54-B887-F7F79891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15A-E6AE-452C-9687-12EB5E0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11A-022E-42A3-87E0-21DB7945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765-55A5-4FAC-BD07-D05F0CC6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8D0-90C2-4441-9237-E5DB60A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A57-D18D-4996-BD58-73851CE4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E67-E85C-43E1-9955-77CCE118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29E9-56B1-4C66-8E64-149B9B3250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00200" y="692280"/>
            <a:ext cx="647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Unit 2  Plant a Pla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28600" y="5334120"/>
            <a:ext cx="822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Lesson 7   Planting Tree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U 2"/>
          <p:cNvPicPr/>
          <p:nvPr/>
        </p:nvPicPr>
        <p:blipFill>
          <a:blip r:embed="rId1"/>
          <a:stretch/>
        </p:blipFill>
        <p:spPr>
          <a:xfrm>
            <a:off x="1371600" y="1600200"/>
            <a:ext cx="601992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33520" y="838080"/>
            <a:ext cx="82296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t’s March 12. Li Ming and his classmates are on a hillside. They 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lan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rees as a school project. A worker is there help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 Ming: Excuse me, sir. We are digging 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le. Is it big enoug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er: Maybe you should make the hole 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tle bigger. It must be large enoug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old the roots of the seed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 Ming: I see. Thank you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a8"/>
          <p:cNvPicPr/>
          <p:nvPr/>
        </p:nvPicPr>
        <p:blipFill>
          <a:blip r:embed="rId1"/>
          <a:stretch/>
        </p:blipFill>
        <p:spPr>
          <a:xfrm>
            <a:off x="8153280" y="152280"/>
            <a:ext cx="839880" cy="1065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0948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Listen and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80880" y="228600"/>
            <a:ext cx="838224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er: Now, put the seedling inside, cov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oots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hol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pack the dirt around the ne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e with your fee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g Mei: OK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y the w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there is anot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up of people down the hi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they also coming to plant t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er: Yes. Many people are worri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the environment i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ing, and they want to 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thing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80880" y="228600"/>
            <a:ext cx="838224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 Ming: These changes are serious. W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a dust storm in spring, 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s windy and dirty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g Mei: Ms. Liu told us the wind blows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t and the sand here from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th. Nothing can stop the wi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there are not many tre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er: Exactly. A lot of rich lands in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thern area ha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urned in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228600"/>
            <a:ext cx="838188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 Ming: I suppose tree planting is ve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g Mei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su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I really like this projec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also a great way to learn abo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er: Yes. It’s fun and important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 plants. Oh, and ple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to pu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tle wat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ttom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7"/>
          <p:cNvPicPr/>
          <p:nvPr/>
        </p:nvPicPr>
        <p:blipFill>
          <a:blip r:embed="rId1"/>
          <a:stretch/>
        </p:blipFill>
        <p:spPr>
          <a:xfrm>
            <a:off x="6019920" y="4267080"/>
            <a:ext cx="2819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0"/>
            <a:ext cx="864216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an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i Ming and his classmates doing on March 1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y are planting trees as a school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y do many people come to plant t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the environment is changing and they want to do something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are the basic steps for planting a tr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g a hole, put the seedling inside, cover the roots ,fill the hole with dirt, pack the dirt around the tree and put water in the bottom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00000" y="278136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Arial"/>
              </a:rPr>
              <a:t>Language poi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79280" y="189000"/>
            <a:ext cx="8605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ll…with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填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pot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花盆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装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泥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ott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用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装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那只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 filled wi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被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充满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塞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 the new roads and streets will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 fi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many cars and buses soon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是不久，新的道路又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多公共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小汽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塞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765000"/>
            <a:ext cx="889308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the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顺便说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the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what do you think about this Te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顺便问一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你认为这个队的水平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the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which province are you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顺便问一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您是哪个省来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11280" y="907920"/>
            <a:ext cx="8013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ust stor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ust stor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ten happens in sp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沙尘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常发生在春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hy wants to buy a scarf to protect herself from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ust stor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凯茜想买一条围巾，以抵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沙尘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836640"/>
            <a:ext cx="8085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in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变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of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s in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b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flash of light, the princ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ed in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fr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阵闪光之后，王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一只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523880" y="1066680"/>
            <a:ext cx="33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286000"/>
            <a:ext cx="76964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is Tree Planting Day in Ch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basic steps for plant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tr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图片42"/>
          <p:cNvPicPr/>
          <p:nvPr/>
        </p:nvPicPr>
        <p:blipFill>
          <a:blip r:embed="rId1"/>
          <a:stretch/>
        </p:blipFill>
        <p:spPr>
          <a:xfrm>
            <a:off x="5638680" y="152280"/>
            <a:ext cx="2233800" cy="223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种树"/>
          <p:cNvPicPr/>
          <p:nvPr/>
        </p:nvPicPr>
        <p:blipFill>
          <a:blip r:embed="rId2"/>
          <a:stretch/>
        </p:blipFill>
        <p:spPr>
          <a:xfrm>
            <a:off x="5257800" y="4343400"/>
            <a:ext cx="2892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625320"/>
            <a:ext cx="8569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s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肯定地；确定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one know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s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really happe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确切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道到底发生了什么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I talked, I would miss something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s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说话了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肯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遗漏些什么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620640"/>
            <a:ext cx="765324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e bottom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…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底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ttle is hidd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e bottom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ton of co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瓶子被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吨棉花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底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e bottom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river, we can see many beautiful roc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河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底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可以看见许多漂亮的石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692280"/>
            <a:ext cx="82296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+adj. to do sth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做某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ver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angerou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m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d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ch th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种事是非常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危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d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is comfortable for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自己的才是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9400" y="152280"/>
            <a:ext cx="2876400" cy="716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Let’s Do It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914400"/>
            <a:ext cx="8226360" cy="12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400" bIns="594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Read the lesson and write true (T) o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false (F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33440" y="1066680"/>
            <a:ext cx="406440" cy="3812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宋体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01480" y="2209680"/>
            <a:ext cx="8337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824544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Li Ming and Wang Mei were having a picnic on a farm.                                           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824544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y asked a teacher for help.         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824544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Li Ming saw another group of people on the hillside.                                                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824544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ang Mei really liked the project.  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7393320" y="2971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7393320" y="3581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7392960" y="4876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7392960" y="5486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26028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Fill in the blanks with the words in th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box. Then put the steps for planting 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tree in the correct ord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14400" y="1752480"/>
            <a:ext cx="74818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   hole     around      cover    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66680" y="2514600"/>
            <a:ext cx="769644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______ of the seedling into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a little water in the _______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the roots and fill the hole with d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 the dirt _______ the new tree wit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 a _____ big enough to hold the roots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ed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14600" y="2590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18148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43000" y="3733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505320" y="4267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209680" y="5410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304920" y="304920"/>
            <a:ext cx="406440" cy="3808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宋体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09480" y="3200400"/>
            <a:ext cx="38124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09480" y="3886200"/>
            <a:ext cx="38124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609480" y="4419720"/>
            <a:ext cx="38124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9480" y="5486400"/>
            <a:ext cx="38124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10920" y="5334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10920" y="2590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960" y="3733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109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534960" y="3048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260280"/>
            <a:ext cx="8435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Complete the passage with the miss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phras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371600"/>
            <a:ext cx="8686800" cy="1556280"/>
          </a:xfrm>
          <a:prstGeom prst="rect">
            <a:avLst/>
          </a:prstGeom>
          <a:solidFill>
            <a:srgbClr val="e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the Green Great Wall   B. planting more trees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dust storms                     D. the northern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274320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 Great Wall was built across ___________________of the country. What is the Green Great Wall? It is made up of strips of human-planted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year ______________ blow a lot of soil off the land. Things are getting more and more serious. About 3 600 square kilome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04920" y="304920"/>
            <a:ext cx="406440" cy="3808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440" rIns="11844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宋体"/>
              </a:rPr>
              <a:t>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682920" y="327672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. the northern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3123360" y="472428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. dust st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80880" y="380880"/>
            <a:ext cx="853452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grassland are taken by the Gobi Desert every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 Great Wall project started in 1978. By _____________________,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ld back the expansion of the desert and raise northern China’s forest coverage by 5% to 15%. By the year 2050, _______________________ will be about 2 800 miles long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130840" y="259092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. planting more t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53280" y="464832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 the Green Great W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0806154"/>
          <p:cNvPicPr/>
          <p:nvPr/>
        </p:nvPicPr>
        <p:blipFill>
          <a:blip r:embed="rId1"/>
          <a:stretch/>
        </p:blipFill>
        <p:spPr>
          <a:xfrm>
            <a:off x="2413080" y="684360"/>
            <a:ext cx="4464000" cy="873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703960" y="77148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cc"/>
                </a:solidFill>
                <a:latin typeface="Times New Roman"/>
              </a:rPr>
              <a:t>Time for 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8360" y="1844640"/>
            <a:ext cx="3887640" cy="72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ll…with…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y the way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ust storm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urn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 the bottom of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’s +adj. to do sth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219640" y="1844640"/>
            <a:ext cx="3313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填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便说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变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895840" y="2190600"/>
            <a:ext cx="385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504d"/>
                </a:solidFill>
                <a:latin typeface="Times New Roman"/>
              </a:rPr>
              <a:t>Exerci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79280" y="3380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words or phr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11280" y="981000"/>
            <a:ext cx="7724520" cy="2177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ill with      by the way        dust storm  turn into    for sure             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in the bottom of                   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large                                     north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0920" y="3284640"/>
            <a:ext cx="85690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____ _____often happens in the ________ ar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ease _____ the glass ______ mi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only have the name, you cannot confirm the identity_____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" rIns="27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619280" y="328464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ust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11280" y="3860640"/>
            <a:ext cx="20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rth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268360" y="450864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64000" y="450864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85928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    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66760" y="170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28600" y="380880"/>
            <a:ext cx="8713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ff0000"/>
                </a:solidFill>
                <a:latin typeface="宋体"/>
              </a:rPr>
              <a:t>植树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是一些国家以法律形式规定的以宣传森林效益，并动员群众参加造林为活动内容的节日。通过这种活动，激发人们爱林、造林的感情，提高人们对森林功用的认识，促进国土绿化，达到爱林护林和扩大森林资源、改善生态环境的目的。中国的植树节开始时是为纪念孙中山先生逝世，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1979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日，中国第五届全国人大常务委员会第六次会议决定，仍以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日为中国的植树节，以鼓励全国各族人民植树造林，绿化祖国，改善环境，造福子孙后代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4827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All of us ca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ur dream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ractical real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I noticed there was a hole ____ ____ _______ ___ his p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You have 400 words for each question, ____ ____ 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____ a _______ hole and put the tree in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The clouds had spread and _______the entire sk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" rIns="27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348000" y="47628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020000" y="404640"/>
            <a:ext cx="10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867280" y="155736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   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95280" y="20606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ttom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9640" y="321300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   the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755640" y="371628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411280" y="371628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6156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v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4000" y="4428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Transla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50920" y="692280"/>
            <a:ext cx="8424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便问一下，这是你的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the way, is this your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天难保不下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can’t say for sure that it won’t r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烟雾弥漫了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room is filled with sm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渐渐地冻雨似乎变成雪花的模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icy rain seemed like to turn into snow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2895480" y="838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209680"/>
            <a:ext cx="7467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 in pairs. Read the lesson and the passage above again. Why should we plant trees? Talk about it and list at least three rea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种树2"/>
          <p:cNvPicPr/>
          <p:nvPr/>
        </p:nvPicPr>
        <p:blipFill>
          <a:blip r:embed="rId1"/>
          <a:stretch/>
        </p:blipFill>
        <p:spPr>
          <a:xfrm>
            <a:off x="468360" y="692280"/>
            <a:ext cx="8207280" cy="5329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71640" y="5300640"/>
            <a:ext cx="172728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挖树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95640" y="5300640"/>
            <a:ext cx="172728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解草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516720" y="5300640"/>
            <a:ext cx="208908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树苗入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340000" y="404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to plant a t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种树步骤"/>
          <p:cNvPicPr/>
          <p:nvPr/>
        </p:nvPicPr>
        <p:blipFill>
          <a:blip r:embed="rId1"/>
          <a:stretch/>
        </p:blipFill>
        <p:spPr>
          <a:xfrm>
            <a:off x="755640" y="620640"/>
            <a:ext cx="792000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332000" y="4724280"/>
            <a:ext cx="210816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一次培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211640" y="4724280"/>
            <a:ext cx="122400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提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300720" y="580536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300720" y="551664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227640" y="4724280"/>
            <a:ext cx="117180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围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种树3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900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5280" y="5373720"/>
            <a:ext cx="165564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浸透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96712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10480" y="5373720"/>
            <a:ext cx="127800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二次培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32748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580000" y="5373720"/>
            <a:ext cx="266400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给树上支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8061123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143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340000" y="620640"/>
            <a:ext cx="446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84360" y="1628640"/>
            <a:ext cx="217944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d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north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bot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284720" y="1700280"/>
            <a:ext cx="46800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的；巨大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覆盖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盖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满；充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暴风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干净的；肮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方的；北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部；最下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la8"/>
          <p:cNvPicPr/>
          <p:nvPr/>
        </p:nvPicPr>
        <p:blipFill>
          <a:blip r:embed="rId2"/>
          <a:stretch/>
        </p:blipFill>
        <p:spPr>
          <a:xfrm>
            <a:off x="609480" y="838080"/>
            <a:ext cx="839880" cy="1065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air%20reading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087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55640" y="1844640"/>
            <a:ext cx="7632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o listen and understand the   conversation about planting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 learn some useful words and expressions to talk about how to plant a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987640" y="765000"/>
            <a:ext cx="28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4382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42920" y="539640"/>
            <a:ext cx="6553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ig, hole, large, cover, fill, storm, dirty, northern, bot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042920" y="2349360"/>
            <a:ext cx="763272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y the way, want to do, turn int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sure, in the bottom of, fill…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newblog01"/>
          <p:cNvPicPr/>
          <p:nvPr/>
        </p:nvPicPr>
        <p:blipFill>
          <a:blip r:embed="rId1"/>
          <a:srcRect l="0" t="0" r="0" b="22623"/>
          <a:stretch/>
        </p:blipFill>
        <p:spPr>
          <a:xfrm>
            <a:off x="7093080" y="620640"/>
            <a:ext cx="1152360" cy="963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187280" y="4668840"/>
            <a:ext cx="489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suppose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’s …to 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116000" y="381960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tter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n.12999.com</dc:creator>
  <dc:description>en.12999.com</dc:description>
  <cp:keywords>en.12999.com</cp:keywords>
  <dc:language>en-US</dc:language>
  <cp:lastModifiedBy>User</cp:lastModifiedBy>
  <dcterms:modified xsi:type="dcterms:W3CDTF">2016-07-20T06:12:15Z</dcterms:modified>
  <cp:revision>20</cp:revision>
  <dc:subject>en.12999.com</dc:subject>
  <dc:title>en.12999.com</dc:title>
</cp:coreProperties>
</file>